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177118"/>
        <c:axId val="60710354"/>
      </c:barChart>
      <c:catAx>
        <c:axId val="941771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10354"/>
        <c:crosses val="autoZero"/>
        <c:auto val="1"/>
        <c:lblAlgn val="ctr"/>
        <c:lblOffset val="100"/>
        <c:noMultiLvlLbl val="0"/>
      </c:catAx>
      <c:valAx>
        <c:axId val="607103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771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60E-2A90-41F0-A365-C10E1A8E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7BD8-C483-4561-BB79-88BED666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5FF-2FD1-4B75-809B-0D364A5C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271-5657-4CC3-AA13-A99813A5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B018-905D-4BC9-867A-D21BFC75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C0A-547C-404B-9700-63B2F70B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24BA-718D-410C-9742-BEE06097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B4A-7C95-483F-A316-EC2DF995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BA4-72A1-4A18-AEBC-EFA3D904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073-6C43-47B5-89FA-6594114D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E8E-30E6-4EB8-B1C5-464D1F20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83EB-4C2B-47A3-AB19-468B5673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09965-520A-44EF-A978-50661994F2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