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3223"/>
        <c:axId val="62664872"/>
      </c:barChart>
      <c:catAx>
        <c:axId val="7403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64872"/>
        <c:crosses val="autoZero"/>
        <c:auto val="1"/>
        <c:lblAlgn val="ctr"/>
        <c:lblOffset val="100"/>
        <c:noMultiLvlLbl val="0"/>
      </c:catAx>
      <c:valAx>
        <c:axId val="62664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3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298-5C6B-4ACB-A374-31CDD108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F48-0668-4952-AFB1-995147E7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552-0153-455D-8825-F721733C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566-38EB-46C6-B940-B4B7EB73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D00-C576-4D74-8E31-33DA5C12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037-6E91-44A4-8DF9-2C51B39C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CA2-7B1C-405F-A302-EDC4864A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373-B3FE-4383-95A6-082A0D5C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0AD-13C8-4143-B033-BF16AC05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6AB-D7EC-44BD-A008-B5A91CCB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229-CCCF-4715-81B3-192C84D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5E4-FD47-4A38-844B-1748C451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AEA87-1249-421A-B5A4-714B4B52DC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