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921327"/>
        <c:axId val="66835784"/>
      </c:barChart>
      <c:catAx>
        <c:axId val="979213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35784"/>
        <c:crosses val="autoZero"/>
        <c:auto val="1"/>
        <c:lblAlgn val="ctr"/>
        <c:lblOffset val="100"/>
        <c:noMultiLvlLbl val="0"/>
      </c:catAx>
      <c:valAx>
        <c:axId val="668357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213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C54E-BAA3-453B-A8E5-740F78B96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678E-A0F9-4016-A10A-A2DF525D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DCA8-5E07-4CDB-9E47-10FF1B5C2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ED8D-FFBC-4E45-A33A-9530E8F43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4F0F-9BF1-402F-8C43-D80807D1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B676-12F5-4B05-B5BF-85EEFF18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7785-B580-4F47-A6CE-0C083D60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5487-3607-47B8-8A7F-0189CE3A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0467-CFC7-4313-84C7-B3A46F6F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23DE-635A-4EED-811C-AA05ED47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BBB4-D96F-44C1-BC90-D39DED17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5FB5-942F-49BA-94A2-F1E3440A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8F295-1E96-4173-9349-9549834F89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