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83561"/>
        <c:axId val="34326853"/>
      </c:barChart>
      <c:catAx>
        <c:axId val="89783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26853"/>
        <c:crosses val="autoZero"/>
        <c:auto val="1"/>
        <c:lblAlgn val="ctr"/>
        <c:lblOffset val="100"/>
        <c:noMultiLvlLbl val="0"/>
      </c:catAx>
      <c:valAx>
        <c:axId val="34326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83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298-DF5E-4A77-B169-24692CA2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FA7-F83F-4701-A8D0-96F2DD07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336-FD39-4692-A5E4-2E10C641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301-1A43-4D72-B98E-53953B59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856-B6CC-4827-89FF-CA162131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E1A-7948-4671-860C-DDA47805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586-4C55-4CEF-8F5F-8400EBB3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27D-81F7-461F-B90E-F8261329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79F-7B43-41F8-9765-8ED353E9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899-42A6-4F95-864E-51EFBD2F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C99-9082-4CFF-8C67-AD7A9DAD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672-5558-4B7F-9A1D-77F73A06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B4FBE-5824-46B9-9D7E-B3EF8C6873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