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24480"/>
        <c:axId val="94767793"/>
      </c:barChart>
      <c:catAx>
        <c:axId val="81124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7793"/>
        <c:crosses val="autoZero"/>
        <c:auto val="1"/>
        <c:lblAlgn val="ctr"/>
        <c:lblOffset val="100"/>
        <c:noMultiLvlLbl val="0"/>
      </c:catAx>
      <c:valAx>
        <c:axId val="94767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24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E4B-5C3E-47AB-B15E-0EECA75C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7C9-11D7-49E2-8DC5-439E2E4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141-771F-477A-9AF9-60441213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255-CC3A-4D7D-8E87-34A49614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6A6-3F69-4364-BBB1-7A1A657C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4EB-A653-4D34-AB78-12B8138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839-EBEE-4AF0-BF53-77FC0893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325-E6A1-49B9-8D92-750D77CD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C11-5AAE-42FD-9521-6444730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F42-0056-40D9-836B-47643EF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B5B-6DB3-488F-B03D-E9B7B98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B25-92F7-42B6-AC6A-4A56D267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2F651-7409-4A13-B8F4-0E75F269F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