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75170"/>
        <c:axId val="18912635"/>
      </c:barChart>
      <c:catAx>
        <c:axId val="80175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2635"/>
        <c:crosses val="autoZero"/>
        <c:auto val="1"/>
        <c:lblAlgn val="ctr"/>
        <c:lblOffset val="100"/>
        <c:noMultiLvlLbl val="0"/>
      </c:catAx>
      <c:valAx>
        <c:axId val="18912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5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96E-49D6-4A0D-BC8F-6844FE2D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0AD-7E43-43B5-8674-5F41FE8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2C0-6558-458A-BCA6-ACB80EF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5FE-E71D-4D25-92C6-D41F487B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AAA-3D87-4C6E-9D00-420CFA1B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E5B-13C2-42D1-BD40-3A2ACD9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14D-E92A-407F-8B0F-593CF18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8DD-EB6A-4DD7-95EE-9A892B2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BF1-4B2A-41F6-8022-48642E2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3E0-40B8-4E2A-8E9A-FA350A1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454-E3C1-4C36-8DFA-D03B5F9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8F0-A45B-41F0-BDD2-DFB534E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F4013-16C7-4D1F-B77B-97541184D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