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31636"/>
        <c:axId val="43131670"/>
      </c:barChart>
      <c:catAx>
        <c:axId val="89316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131670"/>
        <c:crosses val="autoZero"/>
        <c:auto val="1"/>
        <c:lblAlgn val="ctr"/>
        <c:lblOffset val="100"/>
        <c:noMultiLvlLbl val="0"/>
      </c:catAx>
      <c:valAx>
        <c:axId val="431316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316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9D76-1707-4FB6-9174-E16D4AAB6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148E-C963-4C51-BE9D-053622EC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6C6B-67D9-4225-9BD4-278D35DBA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E593-443F-46AF-93E3-09BB00AC8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6192-DD90-452D-9721-3DF338D0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D83C-9690-4459-B15A-9004CF33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E109-B57F-40BC-B48B-2F092C1A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3CBB-2C99-4264-BAD2-BCF2EC95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CA92-A002-4AFB-991A-E374ABA1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6FDF-0E74-45A8-84E7-B6978C0B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E0DB-CAD1-4785-839B-5E7D1650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0083-D6EE-4510-A4E2-CDE15D53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41678A-D287-4C57-9930-D47FBFA7DC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