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58775"/>
        <c:axId val="41556186"/>
      </c:barChart>
      <c:catAx>
        <c:axId val="56558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56186"/>
        <c:crosses val="autoZero"/>
        <c:auto val="1"/>
        <c:lblAlgn val="ctr"/>
        <c:lblOffset val="100"/>
        <c:noMultiLvlLbl val="0"/>
      </c:catAx>
      <c:valAx>
        <c:axId val="41556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58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A81-E505-4C52-AD30-26409D49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3DD-CC3D-4032-B937-48BE039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F8A-DF04-4553-9517-9E40983C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B01-9B1E-4E53-AB0A-3767E8F8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EF2-03F4-4151-8444-A7465CC4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ADF-F67D-4A0E-A831-F405831B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742-6DDE-41E0-8999-5F22D963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111-A79C-410B-8965-EF12057E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85D-C84C-4D06-B700-A368F126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492-6613-4151-A561-6657D91E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2C3-89E0-4699-9568-C6B226C6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723-2167-463C-A29E-7E87296E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B44A7-F752-4DAA-846C-C198BAABF8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