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742427"/>
        <c:axId val="41174736"/>
      </c:barChart>
      <c:catAx>
        <c:axId val="45742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74736"/>
        <c:crosses val="autoZero"/>
        <c:auto val="1"/>
        <c:lblAlgn val="ctr"/>
        <c:lblOffset val="100"/>
        <c:noMultiLvlLbl val="0"/>
      </c:catAx>
      <c:valAx>
        <c:axId val="41174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42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9C3-7955-49CB-AB7D-A5F2D343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CA9-EC02-41C6-B4E2-55A4B9F8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7B2-AF38-40CE-9C7E-143BD4CB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B0B-3892-4560-B232-0C048B61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D38-12C0-4FB6-A7AC-8F2E2FD8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7FE-C016-4DCE-BC6A-30295430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BC80-99C9-4A09-8403-FD6BE70B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AD5-120E-4133-83BF-C61451DF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394-2F2F-494D-A88B-1ECA189D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8F7-DAC6-4C4C-B056-0945D733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298-9C97-4532-A2FE-B97DEE49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AA7-2085-43F8-9788-D0DF7AC8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9A4CB-4EE9-49B4-8DA5-BF7400DB04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